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1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40.png" ContentType="image/png"/>
  <Override PartName="/ppt/media/image52.png" ContentType="image/png"/>
  <Override PartName="/ppt/media/image53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C68-3FCB-4A1F-8E30-8ACEC186F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46AC-EEDB-4C67-B00C-129D19EA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60E-360A-48EB-AE1B-05E7DBDF4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81FE-1D07-494E-9A22-8125DE3B5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9115-C79A-4AD2-83D6-A7B61F09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ADD6-C231-428F-B0E0-B034AB574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EA1C-A383-42F8-B369-06CAF870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33B95-3C40-4FFD-9684-E1B3903C5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37AC-E5BE-45E5-8D63-124FD695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1722-ABC1-4544-9D14-F43C66B9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E31A-544B-4874-A56B-5A1A1F15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A565-AEE8-4E79-BB93-9EB92A72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C111F-31EF-42AE-9AD4-28EF5DE8A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B769-D61F-421A-89D4-AD9B3F8C0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0FA6D-8476-4810-A78B-60343F15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C9DB-7305-42F7-83C6-BDB259DBF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3985-EBD9-4E6F-8558-17B1C61B9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E36F1-A038-4097-86B1-E3041A2AC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06FA2-486D-4003-985A-5137DFFC6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4955B-EBBF-4D05-9CBE-C0DD8FBF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56C062-8B26-4D3F-9B70-0435528C5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47859-B779-4A2B-985B-6A233100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9C1D-DD59-4808-85A5-F94492F7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1A3D7-E8E7-4340-AA64-4D38794A5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2181A-620E-47C7-9FB0-4FB71D9C2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C6A08-3429-448C-95B1-64E1FF66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7EDBD-F6BA-461A-A54B-39B323327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3E822-C1BA-439D-AD12-73CC3339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30A8C2-1EE5-4920-8A31-BED5512D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F8456-015D-46CA-B264-070B2B05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2719D-DB77-49DE-992F-8F9E006CE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3CBF9-EF87-4E8C-9D5A-F1BC8A36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F8F4D-9ABE-4286-BA88-0EB4A3EB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5FFB-AF83-4F99-83CD-4E79F85D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BB0B52-3F50-4457-92B1-65FFAF8A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33A0E-EF69-4EDD-B5AF-5CBC0405F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AE942-631F-45F4-B925-4B365109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DBF45-8F34-4FE6-8B6E-C1A3A7D7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0C9CD-3BAD-4FD2-8678-80AE6922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81D80-DA5F-4DFB-B17A-4ADDBF6B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C7A24-3A2E-4AB3-8DCB-3F0239D41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79519-3193-4E52-9A53-A97C39E5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DBB50-6DE5-4DAF-A608-9FA8F361E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2677A-237D-49C1-A46B-0103E26F8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2863-CFD9-4725-AC7A-5C564D271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CA9221-5798-4BA1-9162-6B6D95C1C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ABCF8-21B6-4F8F-B05A-D2D36823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7A2B4-828D-423B-BB9C-508823D0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52D2FD-590B-4468-A2A2-A37973EC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2EBB2F-0691-4E8E-81A6-9D96D8858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65ACE-8C3C-43F2-8170-F37AA383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11C95-0DB0-4517-9D69-D1F50871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69DC6F-5AD7-4164-991A-2EE74D38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BA3F5-C8D0-4B5A-9866-F058C6625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9C431-9FA7-4085-9331-6CA4FE2F0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9078-66C4-4275-AA4A-C9E5C941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67DEC-10D8-4C1F-81E3-50B59B2E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4D28F-C7D8-4C92-9F6D-E1119C65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D4AB3-409F-4808-9D9D-24C2AB05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88F87-EB08-40A0-9D1D-0090C363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64CD9-D61C-4BF2-AE57-D9A4A863E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C8836D-62ED-4E44-A3E1-34F3824D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F35D7-3136-4AC5-ABAB-FDF697CCD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78590-3D37-4B04-A63B-27FACC8E9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BEDCC-0543-4364-9521-B79B5A3B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0C313-3BA8-4D84-ABDE-4F5CD189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43A-4E35-4A88-BA9A-712161A4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56E63-7CE3-4412-A741-4B4B35D8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2F541-6207-4CC7-AFFA-DED349D70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C39B1-3952-4565-865A-68B367CD1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21C1E-5873-4592-9865-A797A827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9DA711-0178-42DC-81D7-D81C2C75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437C7-A0D2-4B8E-A19E-FEB5AB8F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A5469-432A-4B35-9A96-379048A9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3A1473-DCD8-4BCC-9EE7-7C345FB3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B0FA1-9A22-4102-A7DF-E3BCFD0A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45023-DFD6-4CD8-91C3-9AC36DC7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C46-8024-4BE5-840F-FCAC88B4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972B5-9EFE-402D-8C71-EFB6FAE6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AF1FF-8422-426D-8A5A-D7FAB819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D54A4-103D-4867-8CAB-3908F0F61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E2DAE-D685-4C40-8016-E118FBF17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016F32-C00E-43A1-9A8D-00E0415A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FD7A6-C7B5-42B9-83C8-2AB350696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F32E8-37B4-4BEF-9209-ED835B07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49B6C1-3D28-4CAC-B388-DEC8B9D5D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878AD-F709-4A39-B46F-53DAF8ED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9094C-385C-4110-9940-103F88394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E09-34F2-451F-8200-D098A90D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195D9-AB15-4F28-BE10-DDEEC4DD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4F85A-53A1-461B-9F62-B552D1BF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D23B4-A018-4A57-8C01-278AB970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A5EA0-273F-4023-8EED-96D9A65F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0E983-0ABE-48BF-A5E8-D38E506B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DC48E5-99D4-4D1B-A53D-0F700B8D6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F1F55-0F89-40FA-B848-294A5C865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A7B9-6FE1-412A-98E4-C044C5550A9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Háromszög 6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F7D64-C5B4-4273-8729-72894377D4A9}" type="slidenum">
              <a:rPr b="0" lang="hu-H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7B36-7D1B-46E8-BF4F-EA7F56FDA21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erékszögű háromszög 8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Háromszög 7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Egyenes összekötő 10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Egyenes összekötő 9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D9043-7232-4CF5-BCD8-E063C77384DC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erékszögű háromszög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Egyenes összekötő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Egyenes összekötő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C1B4-1D61-42AF-A1C9-83CF92B559E2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692C-6731-40A8-91D8-2C93BA91F3F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63B15-4B98-4225-B3CF-AC6B1004582D}" type="slidenum">
              <a:rPr b="0" lang="hu-H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8C62-2E69-4EA0-844B-1592ADEBF0F7}" type="slidenum">
              <a:rPr b="0" lang="hu-H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Cím 1" descr=""/>
          <p:cNvPicPr/>
          <p:nvPr/>
        </p:nvPicPr>
        <p:blipFill>
          <a:blip r:embed="rId1"/>
          <a:stretch/>
        </p:blipFill>
        <p:spPr>
          <a:xfrm>
            <a:off x="566640" y="1749600"/>
            <a:ext cx="842508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8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9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romlot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javul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ugyan olyanok maradt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pic>
        <p:nvPicPr>
          <p:cNvPr id="373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4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76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77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1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2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84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85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ím 1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242560" cy="1927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álmaimat kívánom megvalósítan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a legjobb képességeimet veszem figyelemb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figyelemmel kísérem a munkaerőpiacot és a szükséges szakemberek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még nem tudom mi lesz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89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0" name="Tartalom helye 10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92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3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ím 1" descr=""/>
          <p:cNvPicPr/>
          <p:nvPr/>
        </p:nvPicPr>
        <p:blipFill>
          <a:blip r:embed="rId1"/>
          <a:stretch/>
        </p:blipFill>
        <p:spPr>
          <a:xfrm>
            <a:off x="493560" y="-66600"/>
            <a:ext cx="8242560" cy="19256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szülők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egyéni vélemény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tanáraim vélemény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ismerősöm, családtagom jár(t) ide, s az ő véleménye alapjá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Cím 4" descr=""/>
          <p:cNvPicPr/>
          <p:nvPr/>
        </p:nvPicPr>
        <p:blipFill>
          <a:blip r:embed="rId1"/>
          <a:stretch/>
        </p:blipFill>
        <p:spPr>
          <a:xfrm>
            <a:off x="450720" y="182520"/>
            <a:ext cx="8528040" cy="31831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335736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ig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nem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Cím 6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97" name="Tartalom helye 1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98" name="Tartalom helye 1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Cím 1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199404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457200" y="2357280"/>
            <a:ext cx="8229600" cy="40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csalá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karri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a kettő összhangj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405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6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408" name="Tartalom helye 5" descr=""/>
          <p:cNvPicPr/>
          <p:nvPr/>
        </p:nvPicPr>
        <p:blipFill>
          <a:blip r:embed="rId2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409" name="Tartalom helye 7" descr=""/>
          <p:cNvPicPr/>
          <p:nvPr/>
        </p:nvPicPr>
        <p:blipFill>
          <a:blip r:embed="rId3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Cím 5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57420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614376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457200" y="207144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álint Zsóf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Fehér Jud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Tátrai Kitti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Vas Ver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12.B osztályos tanuló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2009. November 16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49" name="Tartalom helye 7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0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52" name="Tartalom helye 9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3" name="Tartalom helye 8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Cím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1200" cy="15476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körülbelül ugyanannyi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sokkal tö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kevesebb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Cím 1" descr=""/>
          <p:cNvPicPr/>
          <p:nvPr/>
        </p:nvPicPr>
        <p:blipFill>
          <a:blip r:embed="rId1"/>
          <a:stretch/>
        </p:blipFill>
        <p:spPr>
          <a:xfrm>
            <a:off x="396720" y="-85680"/>
            <a:ext cx="8485200" cy="1927080"/>
          </a:xfrm>
          <a:prstGeom prst="rect">
            <a:avLst/>
          </a:prstGeom>
          <a:ln w="0">
            <a:noFill/>
          </a:ln>
        </p:spPr>
      </p:pic>
      <p:pic>
        <p:nvPicPr>
          <p:cNvPr id="357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58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60" name="Tartalom helye 4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1" name="Tartalom helye 5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ím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A) hogy jó jegyet kapja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B) hogy minél műveltebb legy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C) hogy másoknak megfelelje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entury Gothic"/>
              </a:rPr>
              <a:t>D) hogy folytathassam a tanulást valamilyen felsőoktatási intézménybe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ím 3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65" name="Tartalom helye 6" descr=""/>
          <p:cNvPicPr/>
          <p:nvPr/>
        </p:nvPicPr>
        <p:blipFill>
          <a:blip r:embed="rId2"/>
          <a:stretch/>
        </p:blipFill>
        <p:spPr>
          <a:xfrm>
            <a:off x="450720" y="1719360"/>
            <a:ext cx="4048200" cy="4535280"/>
          </a:xfrm>
          <a:prstGeom prst="rect">
            <a:avLst/>
          </a:prstGeom>
          <a:ln w="0">
            <a:noFill/>
          </a:ln>
        </p:spPr>
      </p:pic>
      <p:pic>
        <p:nvPicPr>
          <p:cNvPr id="366" name="Tartalom helye 7" descr=""/>
          <p:cNvPicPr/>
          <p:nvPr/>
        </p:nvPicPr>
        <p:blipFill>
          <a:blip r:embed="rId3"/>
          <a:stretch/>
        </p:blipFill>
        <p:spPr>
          <a:xfrm>
            <a:off x="4645080" y="1719360"/>
            <a:ext cx="404820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5:08:36Z</dcterms:created>
  <dc:creator>Agora Kft.</dc:creator>
  <dc:description/>
  <dc:language>en-US</dc:language>
  <cp:lastModifiedBy>Jakab</cp:lastModifiedBy>
  <dcterms:modified xsi:type="dcterms:W3CDTF">2010-07-05T21:42:34Z</dcterms:modified>
  <cp:revision>64</cp:revision>
  <dc:subject/>
  <dc:title>Jövőkép és önismeret a 15-16 éves Apáczais diákoknál</dc:title>
</cp:coreProperties>
</file>