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7886-5B59-4DCB-A066-93F7881E3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8EE-18B7-4576-A565-9174138F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F05-3356-41EF-980D-15BB71D9D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47EB-9444-4D86-83E4-03DE8FD5B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5E989-6E1C-44AC-BC1B-9FA2E173D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B905C-314E-4013-84B2-2C57FA5D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0265-A33E-443D-9140-D3A71071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8C8F7-DD41-431E-980B-BA89FE39B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8763-F2C6-4F38-9DBF-940B967D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75B75-657A-4D36-A0B4-E986A7163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47A81-65BC-487B-BE29-0D0A2956C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D6C7-5C14-4AA2-B54F-AF469211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C29BE-0769-417E-B283-E6C00D5E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009AA-994D-4602-B259-189CFA65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5E42-810A-4A36-BBF1-1E6343423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C739-C218-429E-8956-222CE139D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C3FB-2C1F-4E2D-ACDC-1839DECC9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392E-C54A-4A8E-802C-74D58154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898-BB19-4D7B-B3AA-3484F6D5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E77B-CB8B-4EB3-B147-F36A1DF26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08F7-89E1-4D4B-8402-D9C1754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6E87-B1DB-45BA-AE01-473A033C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46B3-1FD1-4B83-9775-377CCB4D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555-A0AD-4445-B66A-E22C53BB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9C78-7813-41A3-9769-5B02810313FA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C79E-25DC-49F3-89FC-AE3378C6E867}" type="slidenum">
              <a:rPr b="0" lang="hu-H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MARKETING ALAPISMERETE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58560" y="2637000"/>
            <a:ext cx="7010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9. október 20. és november 3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3284640"/>
            <a:ext cx="341784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VEVŐÉRTÉK FOGALM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= a megvásárolt termék vagy szolgáltatás (a) és az érte nyújtott ellenszolgáltatás (b) különbs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ermék értéke, szolgáltatás értéke, személyzet/kiszolgálás értéke, imázs érték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öltség, időráfordítás, energia ráfordítás, pszichikai ráfordí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A MARKETING HÁLÓZATBA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beszerzés és ellá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yár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osztás (logisztik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marketing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értékesíté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zolgáltatá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95280" y="304920"/>
            <a:ext cx="8353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GY NÉPSZERŰ TÉMA A 21.SZÁZADBAN: A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FOGYASZTÓI MAGATART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öbbféle modellt alkottak vizsgálatár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ásárlási szándék: a vevő „fekete doboza” (az individuumot rejti) 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ismerhető belől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vevő egyéni jellemző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 döntési folyamat eleme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MARKETINGTÍPUSOK A VEVŐ SZEMSZÖGÉBŐL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generáció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kultur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regionális marketin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940360" y="1557360"/>
            <a:ext cx="1800360" cy="1603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867280" y="3141720"/>
            <a:ext cx="2590920" cy="1722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5940360" y="4797360"/>
            <a:ext cx="259236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MI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lati tevékenység orientációja a versenyképesség érdekéb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állalat és a piac kapcsolatán alapu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eredményességének feltétele, hogy az adott vállalkozá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egismerj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ersenytársaknál jobban kielégítse a vevők szükségletei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IN ALAPUL A MARKETING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evők szükségletei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élpi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zervezeti koordináció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yereségessé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ELYEK A MARKETING FŐBB ESZKÖZEI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DUCT (termék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ICE (ár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LACE (értékesítés helye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10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MOTION (kommunikáció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EGY SIKERES MARKETINGFOLYAMAT A 19. SZÁZADBÓL: </a:t>
            </a:r>
            <a:br>
              <a:rPr sz="3400"/>
            </a:br>
            <a:r>
              <a:rPr b="0" lang="hu-HU" sz="3400" spc="-1" strike="noStrike">
                <a:solidFill>
                  <a:srgbClr val="000000"/>
                </a:solidFill>
                <a:latin typeface="Verdana"/>
              </a:rPr>
              <a:t>Isaac Singer és a varrógé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3363840" cy="47242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00720" y="2060640"/>
            <a:ext cx="382716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243640" cy="50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újításai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lábbal hajtott pedá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z anyagot varrás közben leszorító tal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az üzlettárs, Edward Clark ötle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ingyenes „reklámújság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régi gépek beszámít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női vásárlóközönség megcélzá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56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56: 2564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0: 100000 gép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867: a </a:t>
            </a:r>
            <a:r>
              <a:rPr b="0" i="1" lang="hu-HU" sz="3000" spc="-1" strike="noStrike">
                <a:solidFill>
                  <a:srgbClr val="000000"/>
                </a:solidFill>
                <a:latin typeface="Verdana"/>
              </a:rPr>
              <a:t>Singer Corporation</a:t>
            </a: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a világ els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multinacionális cég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(Singer vagyona halálakor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000000"/>
                </a:solidFill>
                <a:latin typeface="Verdana"/>
              </a:rPr>
              <a:t>15 millió dollár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6210360" y="1844640"/>
            <a:ext cx="2933640" cy="39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4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7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 Ford, a Ford T tervezője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092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Minden vevő megkaphatja a kedvenc színű autóját, feltéve, ha az a fekete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763640" y="3164040"/>
            <a:ext cx="4537080" cy="36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Verdana"/>
              </a:rPr>
              <a:t>A TÁRSADALMI FELELŐSSÉG KÉRDÉS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zabályozás hatás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tikai befoly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tikai befolyásolá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senyből adódó hatáso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M EGYSZERŰEN A SZÜKSÉGLETEK KIELÉGÍTÉSE ÉS A PROFIT MAXIMALIZÁLÁSA A CÉL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4:09:15Z</dcterms:created>
  <dc:creator>MS-USER</dc:creator>
  <dc:description/>
  <dc:language>en-US</dc:language>
  <cp:lastModifiedBy>Jakab</cp:lastModifiedBy>
  <dcterms:modified xsi:type="dcterms:W3CDTF">2010-07-05T19:12:47Z</dcterms:modified>
  <cp:revision>4</cp:revision>
  <dc:subject/>
  <dc:title>MARKETING ALAPISMERETEK</dc:title>
</cp:coreProperties>
</file>