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EDE3-5D01-4606-A982-06128992638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B358F-ED8A-453B-A0E7-FE5AF20A2BAE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7872-47EB-4CEA-A32B-D13C6CE23EF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F18C-83B4-45DF-AF33-160AF2F0DA87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Dia számának helye 3"/>
          <p:cNvSpPr/>
          <p:nvPr/>
        </p:nvSpPr>
        <p:spPr>
          <a:xfrm>
            <a:off x="3852720" y="942984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B996-703D-4F49-B162-3E04DEE63972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EBA5-4E51-4A1F-B117-902B455C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BDAE-C871-4B97-9142-05020B86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E79-A35B-4694-B162-630B577B2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1B92-E5E5-4622-8AFE-8441C03A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07C2-8F6C-40C0-B610-3ABB0FC6F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0AF0-CAC0-4F5E-AB87-EBEC01950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CB4F-0167-4439-ACFC-823AA134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F0CAE-A592-4F9D-9A6E-4B5028331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503F-ADF9-4482-94D7-D4181611D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D95D-9E48-45C2-BA5A-3B533C49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6063-E8B2-471A-B914-8C1F7448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376-BD84-4DAE-9118-1174FC48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05FA-6FA3-491C-B11F-983273F2D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31BB-8BA3-4682-9F05-D08E0EC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F831-3352-461D-8027-B4A9FC17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7B22-1724-4065-9F6B-5D2796CAF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DCF5-0857-4DD6-A7DD-FA730E48A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8221-6DEA-4D57-AF41-B60110402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786-51A5-4404-A882-4670350B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7FE9-4AAE-4EF5-B0D7-4D150938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38088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D0EB-5D99-4DB7-8A49-F523A762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E2E1-F16D-411F-A498-75DF30F5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B8CE-E0DE-4329-B2DD-2811C40B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542E-38AA-44B9-BB2E-3A08E27E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A922-14E2-4948-94BE-8B4129DCA5DB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Freeform 3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4"/>
          <p:cNvSpPr/>
          <p:nvPr/>
        </p:nvSpPr>
        <p:spPr>
          <a:xfrm>
            <a:off x="0" y="3817800"/>
            <a:ext cx="8164440" cy="3019680"/>
          </a:xfrm>
          <a:custGeom>
            <a:avLst/>
            <a:gdLst>
              <a:gd name="textAreaLeft" fmla="*/ 0 w 8164440"/>
              <a:gd name="textAreaRight" fmla="*/ 8164800 w 8164440"/>
              <a:gd name="textAreaTop" fmla="*/ 0 h 3019680"/>
              <a:gd name="textAreaBottom" fmla="*/ 3020040 h 3019680"/>
            </a:gdLst>
            <a:ahLst/>
            <a:rect l="textAreaLeft" t="textAreaTop" r="textAreaRight" b="textAreaBottom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5"/>
          <p:cNvSpPr/>
          <p:nvPr/>
        </p:nvSpPr>
        <p:spPr>
          <a:xfrm>
            <a:off x="0" y="3146400"/>
            <a:ext cx="9144000" cy="36910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691080"/>
              <a:gd name="textAreaBottom" fmla="*/ 3691440 h 3691080"/>
            </a:gdLst>
            <a:ahLst/>
            <a:rect l="textAreaLeft" t="textAreaTop" r="textAreaRight" b="textAreaBottom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6"/>
          <p:cNvSpPr/>
          <p:nvPr/>
        </p:nvSpPr>
        <p:spPr>
          <a:xfrm>
            <a:off x="0" y="2460600"/>
            <a:ext cx="9144000" cy="24973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497320"/>
              <a:gd name="textAreaBottom" fmla="*/ 2497680 h 2497320"/>
            </a:gdLst>
            <a:ahLst/>
            <a:rect l="textAreaLeft" t="textAreaTop" r="textAreaRight" b="textAreaBottom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7"/>
          <p:cNvSpPr/>
          <p:nvPr/>
        </p:nvSpPr>
        <p:spPr>
          <a:xfrm>
            <a:off x="0" y="1793880"/>
            <a:ext cx="9144000" cy="15397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539720"/>
              <a:gd name="textAreaBottom" fmla="*/ 1540080 h 1539720"/>
            </a:gdLst>
            <a:ahLst/>
            <a:rect l="textAreaLeft" t="textAreaTop" r="textAreaRight" b="textAreaBottom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8"/>
          <p:cNvSpPr/>
          <p:nvPr/>
        </p:nvSpPr>
        <p:spPr>
          <a:xfrm>
            <a:off x="0" y="-20520"/>
            <a:ext cx="9144000" cy="168264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682640"/>
              <a:gd name="textAreaBottom" fmla="*/ 1683000 h 1682640"/>
            </a:gdLst>
            <a:ahLst/>
            <a:rect l="textAreaLeft" t="textAreaTop" r="textAreaRight" b="textAreaBottom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9"/>
          <p:cNvSpPr/>
          <p:nvPr/>
        </p:nvSpPr>
        <p:spPr>
          <a:xfrm>
            <a:off x="0" y="-20520"/>
            <a:ext cx="8388360" cy="1068120"/>
          </a:xfrm>
          <a:custGeom>
            <a:avLst/>
            <a:gdLst>
              <a:gd name="textAreaLeft" fmla="*/ 0 w 8388360"/>
              <a:gd name="textAreaRight" fmla="*/ 8388720 w 838836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10"/>
          <p:cNvSpPr/>
          <p:nvPr/>
        </p:nvSpPr>
        <p:spPr>
          <a:xfrm>
            <a:off x="0" y="-20520"/>
            <a:ext cx="4578480" cy="453960"/>
          </a:xfrm>
          <a:custGeom>
            <a:avLst/>
            <a:gdLst>
              <a:gd name="textAreaLeft" fmla="*/ 0 w 4578480"/>
              <a:gd name="textAreaRight" fmla="*/ 4578840 w 4578480"/>
              <a:gd name="textAreaTop" fmla="*/ 0 h 453960"/>
              <a:gd name="textAreaBottom" fmla="*/ 454320 h 453960"/>
            </a:gdLst>
            <a:ahLst/>
            <a:rect l="textAreaLeft" t="textAreaTop" r="textAreaRight" b="textAreaBottom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2006.12.15. Debrec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232A-D7BC-43F8-8446-E8765D50B001}" type="slidenum">
              <a:rPr b="0" lang="en-C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eed.hu/cikkek/gyik#Slide 9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ép 3" descr="doctor-main_Full.jpg"/>
          <p:cNvPicPr/>
          <p:nvPr/>
        </p:nvPicPr>
        <p:blipFill>
          <a:blip r:embed="rId1"/>
          <a:stretch/>
        </p:blipFill>
        <p:spPr>
          <a:xfrm>
            <a:off x="0" y="0"/>
            <a:ext cx="4286160" cy="66978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20000"/>
              </a:srgbClr>
            </a:outerShdw>
          </a:effectLst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0" y="213840"/>
            <a:ext cx="4929120" cy="13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Egyéni</a:t>
            </a:r>
            <a:br>
              <a:rPr sz="4400"/>
            </a:br>
            <a:r>
              <a:rPr b="0" lang="hu-HU" sz="4400" spc="-1" strike="noStrike">
                <a:solidFill>
                  <a:srgbClr val="bf7300"/>
                </a:solidFill>
                <a:latin typeface="Times New Roman"/>
              </a:rPr>
              <a:t>vállalkozásu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00720" y="4071600"/>
            <a:ext cx="427176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ominis b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Élőláb helye 4"/>
          <p:cNvSpPr/>
          <p:nvPr/>
        </p:nvSpPr>
        <p:spPr>
          <a:xfrm>
            <a:off x="624852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óról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Plakát (főleg egészségügyi intézményekbe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i díj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Reklá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7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6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Arcul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logen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jánlások megszerz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0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logen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még nem reklamált senki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Nálunk a beteg az első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Hatékony gyógyítás a legmodernebb eszközökkel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Évenkénti ingyenes szűrés állandó ügyfeleinkne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18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6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iztosítá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lelősség 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5000">
    <p:dissolv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4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Bővítési lehető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öbb orvos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itkárnő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poló, ápolónő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Gyógytornász alkalma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Diagnosztika (tőkeigénye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5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5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2" descr="C:\Documents and Settings\Ati\Asztal\tarstori\orvos_640.jpg"/>
          <p:cNvPicPr/>
          <p:nvPr/>
        </p:nvPicPr>
        <p:blipFill>
          <a:blip r:embed="rId2"/>
          <a:stretch/>
        </p:blipFill>
        <p:spPr>
          <a:xfrm>
            <a:off x="714240" y="2071800"/>
            <a:ext cx="7712280" cy="397656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Forrás(ok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http://www.seed.hu/cikkek/gyik#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magyarorszag.hu/vallalkozas/ugyek/vallalkmuk/engedelyvallalk/uzlmukeng20090319.html/ugyleirasjog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fhb.hu/vallalatok/szamla_megtakaritas/vallalati_bankszamla_csomagok/vallalati_bankszamla_csomago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interport.hu/Cegalapitas/Cegalapitas-Modositas-Kft-Bt-alapitas-online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www.ceghmester.hu/index.php?mode=menu1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Times New Roman"/>
              </a:rPr>
              <a:t>http://antsz.hu/baranya/ugyfel/kerelemmintak/Engelj.p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10000">
    <p:dissolv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7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00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7000"/>
                            </p:stCondLst>
                            <p:childTnLst>
                              <p:par>
                                <p:cTn id="2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Profil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rvosi vállalkozásunk egy egészségügyi szolgáltató  betéti társaság. Többféle szolgáltatást nyújtunk. Orvosaink a szakma elismert képviselői. Korszerű eszközökkel dolgozunk, az Európai Uniós normáknak megfelelően. Már bizonyítottan eredményes új eljárásokat is alkalmazun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mph" presetID="4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 to="1.5">
                                      <p:cBhvr additive="repl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Tevékenységi területein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Járó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Fekvőbeteg ellá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Okta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rmészettudományi kutatás és fejleszt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cc66"/>
                </a:solidFill>
                <a:latin typeface="Times New Roman"/>
              </a:rPr>
              <a:t>Szükséges személyi minimál feltételek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ét orvosi diplomával és megfelelő tapasztalattal,  referenciákkal rendelkező személy (a kapcsolati tőke előnyt jele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Ügyvé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6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engedély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APE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K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Cégnyilvántar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ÁNTS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ankszám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ársasági szerződ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000"/>
                            </p:stCondLst>
                            <p:childTnLst>
                              <p:par>
                                <p:cTn id="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anyagi feltétel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Indulótők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Teleph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6000">
    <p:dissolv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Működési engedély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0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z eljárási illeték összege :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15.000,- 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Eljárási díj telephelyenként (ÁNTSZ-nek fizetendő, új és módosított engedély esetében egyaránt)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7.400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Szükséges Indulótőke 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Cégalapítás, Bt alapítás, Kft alapí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39.000,- Ft + Áfa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[ az ár tartalmazza az aláírási címpéldányokat] + illeték és közzétételi díj [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20.000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] –könyvel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Bankszámlanyitás: </a:t>
            </a:r>
            <a:r>
              <a:rPr b="0" lang="hu-HU" sz="3200" spc="-1" strike="noStrike">
                <a:solidFill>
                  <a:srgbClr val="ffffff"/>
                </a:solidFill>
                <a:latin typeface="Arial Unicode MS"/>
              </a:rPr>
              <a:t>0 ,- F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A minimális indulótőke összesen: kb </a:t>
            </a:r>
            <a:r>
              <a:rPr b="1" lang="hu-HU" sz="3200" spc="-1" strike="noStrike">
                <a:solidFill>
                  <a:srgbClr val="ffffff"/>
                </a:solidFill>
                <a:latin typeface="Arial Unicode MS"/>
              </a:rPr>
              <a:t>330.000 ,- Ft </a:t>
            </a: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(2fős bt. esetén)</a:t>
            </a:r>
            <a:br>
              <a:rPr sz="3200"/>
            </a:br>
            <a:r>
              <a:rPr b="0" i="1" lang="hu-HU" sz="3200" spc="-1" strike="noStrike">
                <a:solidFill>
                  <a:srgbClr val="ffffff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8000"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cc66"/>
                </a:solidFill>
                <a:latin typeface="Times New Roman"/>
              </a:rPr>
              <a:t>Egyéb költsége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Market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Biztosítá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Számítógépes rendszer az adatok nyilvántartásá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Élőláb helye 3"/>
          <p:cNvSpPr/>
          <p:nvPr/>
        </p:nvSpPr>
        <p:spPr>
          <a:xfrm>
            <a:off x="38098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Times New Roman"/>
              </a:rPr>
              <a:t>Fejér Attila, Sedró Dán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7000">
    <p:dissolv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6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6T13:11:57Z</dcterms:created>
  <dc:creator>Petr Widimský</dc:creator>
  <dc:description/>
  <dc:language>en-US</dc:language>
  <cp:lastModifiedBy>Jakab</cp:lastModifiedBy>
  <dcterms:modified xsi:type="dcterms:W3CDTF">2010-07-05T21:43:53Z</dcterms:modified>
  <cp:revision>109</cp:revision>
  <dc:subject/>
  <dc:title>METAANALYSIS OF THE PRAGUE 1 + 2 STUDIES</dc:title>
</cp:coreProperties>
</file>