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FB1C4-A8CF-444D-8F88-7A09CC7C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1C58A-02E7-47C1-948D-37D80033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94E4D-0AE7-42DC-81A6-50FD643C2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23B2F-6A81-425E-9886-1238F0BF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29B18-42E4-4ACD-B0D7-ED9FFA4BB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0FD3-0AEF-4C3A-9E21-866B1FB2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B22C-35C7-495B-A0EC-484DFB9A5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08A4B-15A7-4545-9C2F-F5641909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499E-9D66-47F4-A842-1B517579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399F-A091-44E1-9AE6-AB6F4631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7DF3-4717-4BDB-ABB7-4943747C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E1DDD-88CE-41BD-9187-B0F0CB12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60FA-0B0D-4E79-A31F-BA76CFD8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E396-DEE0-4F07-AE00-25A60DCD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45344-D80D-461C-88DD-DD7C61FD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34C4-5355-4AE2-93CC-2E355BE84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6861-BB10-4BC2-AE72-C28631B7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71193-2972-4848-A0AF-7891E790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4C23C-75BB-4C8A-8581-2017491D0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58A5E-4205-41D4-9374-5AC232E7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5F025-A3DD-46A3-BEB4-E6BF135C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5A492-B097-4BA0-80B6-F79F8DA3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62AEE-C623-4F83-803C-58D03B483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BDC5B-B6CE-4416-85DB-689574F4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7f3f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0448-A951-47F8-88AF-6BC138B8785E}" type="slidenum">
              <a:rPr b="0" lang="en-US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50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8565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a6362"/>
                </a:gs>
                <a:gs pos="100000">
                  <a:srgbClr val="7453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d5958"/>
                  </a:gs>
                  <a:gs pos="100000">
                    <a:srgbClr val="8a636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050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8565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Calibri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8a6362"/>
                </a:gs>
                <a:gs pos="100000">
                  <a:srgbClr val="74535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Calibri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7f3f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7f3f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831D-6EB8-4D48-BEEE-7CD50CD354CC}" type="slidenum">
              <a:rPr b="0" lang="en-US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hjfifo.uw.hu/vendegl.doc" TargetMode="External"/><Relationship Id="rId2" Type="http://schemas.openxmlformats.org/officeDocument/2006/relationships/hyperlink" Target="http://vallalkozokedv.webkatalogus.com/v_formak.html" TargetMode="External"/><Relationship Id="rId3" Type="http://schemas.openxmlformats.org/officeDocument/2006/relationships/hyperlink" Target="http://vallalkozokedv.webkatalogus.com/v_formak.html" TargetMode="External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Egyéni vállalkozás: </a:t>
            </a:r>
            <a:br>
              <a:rPr sz="4400"/>
            </a:b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hagyományos étterem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484360" y="2133720"/>
            <a:ext cx="4038840" cy="35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Terjeszkedési lehetősége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7f3f3"/>
                </a:solidFill>
                <a:latin typeface="Garamond"/>
              </a:rPr>
              <a:t>a főváros különböző belső kerületeibe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7f3f3"/>
                </a:solidFill>
                <a:latin typeface="Garamond"/>
              </a:rPr>
              <a:t>vidéki nagyvárosokba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716360" y="1700280"/>
            <a:ext cx="3638520" cy="24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d8c1ba"/>
                </a:solidFill>
                <a:latin typeface="Garamond"/>
              </a:rPr>
              <a:t>Irodalomjegyzé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570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http://hjfifo.uw.hu/vendegl.doc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http://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vallalkozokedv.webkatalogus.com/v_formak.html</a:t>
            </a: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2000" y="5229360"/>
            <a:ext cx="403236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7f3f3"/>
                </a:solidFill>
                <a:latin typeface="Garamond"/>
              </a:rPr>
              <a:t>Készítette: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7f3f3"/>
                </a:solidFill>
                <a:latin typeface="Garamond"/>
              </a:rPr>
              <a:t>Palotai Tímea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7f3f3"/>
                </a:solidFill>
                <a:latin typeface="Garamond"/>
              </a:rPr>
              <a:t>Barakka Patrícia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9.11.01.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Szükséges dolgozó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üzletvezető (vendéglátó-ipari végzettséggel)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önyvelő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pincér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szakács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159520" y="1600200"/>
            <a:ext cx="301464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Kft. Indítási költségei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Törzstőke: minimum 3.000.000,- Ft, ennek minimum a 30 %-nak, de  legalább 1.000.000,- forintnak készpénznek kell lennie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Egy tag törzsbetéte 100.000,- Ft-nál kevesebb nem lehet, s a forintban kifejezendő törzsbetét tízezerrel maradéktalanul osztható legyen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Közzétételi díj 20.000,- Ft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Illeték 80.000,- Ft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Aláírási címpéldány min, 5 db 2.000,- Ft/db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Ügyvédi díj: ügyvédtől függő, kb. 100.000,- 120.000 Ft.</a:t>
            </a:r>
            <a:br>
              <a:rPr sz="2000"/>
            </a:br>
            <a:r>
              <a:rPr b="0" lang="en-US" sz="2000" spc="-1" strike="noStrike">
                <a:solidFill>
                  <a:srgbClr val="f7f3f3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Engedélye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ÁNTSZ engedély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tűzvédelmi hatóságok hozzájárulása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jövedéki engedély alkohol és dohányárura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működési engedély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c1605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özterületi árusítási engedély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Bejelentési kötelezettségek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876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szeszes ital forgalmazásának bejelentése a rendőrségen 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a zene/műsorszolgáltatás bejelentése a rendőrségen, helyi jegyzőnél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601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az üzlet osztályba sorolás</a:t>
            </a:r>
            <a:r>
              <a:rPr b="0" lang="en-US" sz="2400" spc="-1" strike="noStrike">
                <a:solidFill>
                  <a:srgbClr val="f7f3f3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7f3f3"/>
                </a:solidFill>
                <a:latin typeface="Garamond"/>
              </a:rPr>
              <a:t> a helyi jegyzőnél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I. osztályba sorolás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elkülönített fogadótér a bejárattó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a vendégekkel érintkező dolgozók formaruhát viselnek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a vezető és a konyhafőnök szakképzett és 5 év szakmai gyakorlata van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a fellépő művészek A típusú igazolvánnyal rendelkeznek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égfelirat készítése 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név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üzlettípus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ulajdonos neve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vállalkozás formája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Arcul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dohányzó és nemdohányzó helyiség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barátságos légkör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erthelyiség 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00720" y="1844640"/>
            <a:ext cx="4032000" cy="26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8c1ba"/>
                </a:solidFill>
                <a:latin typeface="Garamond"/>
              </a:rPr>
              <a:t>Elhelyezkedés</a:t>
            </a:r>
            <a:br>
              <a:rPr sz="4000"/>
            </a:b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fővárosban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közel a központhoz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7f3f3"/>
                </a:solidFill>
                <a:latin typeface="Garamond"/>
              </a:rPr>
              <a:t>forgalmas helyen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788000" y="1341360"/>
            <a:ext cx="3327480" cy="3807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08:27:06Z</dcterms:created>
  <dc:creator>Pekár Mihály</dc:creator>
  <dc:description/>
  <dc:language>en-US</dc:language>
  <cp:lastModifiedBy>Jakab</cp:lastModifiedBy>
  <dcterms:modified xsi:type="dcterms:W3CDTF">2010-07-05T21:45:20Z</dcterms:modified>
  <cp:revision>6</cp:revision>
  <dc:subject/>
  <dc:title>Egyéni vállalkozás: hagyományos étterem</dc:title>
</cp:coreProperties>
</file>