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3AF-0D46-429E-AF92-58F7FB542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645D-8829-4E5F-A3D9-E576920F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E60F-93BA-4EC0-B77F-D0E877E11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5E46-AE52-4D51-AC2A-ED143902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9193-B622-4016-81B6-CDCA5C03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29BF-62DF-4BAC-804E-D40136D60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5B63-CFD3-49B5-8AEF-2AB28A830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FC19-8C62-4EB8-B016-BAD24E88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2B27-A68C-43F7-AD19-48FFF48B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097E-D376-4934-BA30-10EEE32E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39AF-1498-4959-9211-8082CA03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E070-51A0-44D1-8DEC-71C1316B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41D3-CB38-476C-B53E-94D5D3C81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C8390-EA20-4C9B-826C-B444D55F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2054-DABD-4E82-AD2C-C062D2FA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3A7A5-121A-4DE0-B510-1521B227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EEF0-FCCB-483E-8ED9-AC43B19E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13FE-5E7F-43C2-A023-0F94D266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27A9-C185-457D-8E54-30EC123C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EE88-A873-4754-A6C3-29ADC487A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74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D42-B067-480F-AA88-2FCCDBA46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BFAD-3AE7-4C1D-B22B-C47D25DB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15DF-33F7-4804-A8B1-C929A2DB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9119-EBD3-439C-8760-FC8269CA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3121-8B0F-4FC9-9E67-E0B60F6843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0153-79BC-4EBA-8128-5459806B7C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557000"/>
            <a:ext cx="87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b7e7ff"/>
                </a:solidFill>
                <a:latin typeface="Arial Black"/>
              </a:rPr>
              <a:t>Bevezetés a pszichológiába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ársadalomismeret Epo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9/201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A kötődés – Harlow kísér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38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619280" y="0"/>
            <a:ext cx="543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Interiorizáció vs. behódolás: Milgram kísérlete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411280" y="1484280"/>
            <a:ext cx="42372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A pszichológia „hőskora”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6210000"/>
            <a:ext cx="3313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Wilhelm Wund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826920" y="1341360"/>
            <a:ext cx="3141720" cy="4869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45120" y="1268280"/>
            <a:ext cx="3713040" cy="4897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148360" y="6210360"/>
            <a:ext cx="3313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igmund Freu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042920" y="1182600"/>
            <a:ext cx="734400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Freud pszichoszexuális fejlődéselmélet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Orális (0-1 év) - száj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Anális (1-2/3 év) – végbélnyílá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Fallikus (3-5 év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LATENCIA (5/6 év – serdülőko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ffffff"/>
                </a:solidFill>
                <a:latin typeface="Arial"/>
              </a:rPr>
              <a:t>Genitális (serdülőkor- ) – nemi szerv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Leonardo: Szent Anna harmadmagával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627280" y="1484280"/>
            <a:ext cx="40338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reud ösztöntana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3795840" cy="5184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rcRect l="0" t="5284" r="12151" b="2483"/>
          <a:stretch/>
        </p:blipFill>
        <p:spPr>
          <a:xfrm>
            <a:off x="6084720" y="1413000"/>
            <a:ext cx="2805120" cy="5184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067280" y="2060640"/>
            <a:ext cx="1944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rósz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hanatosz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Cesare Lombroso elmélete (1876)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4360" y="1557360"/>
            <a:ext cx="405144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39640" y="-50760"/>
            <a:ext cx="799308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b7e7ff"/>
                </a:solidFill>
                <a:latin typeface="Arial"/>
              </a:rPr>
              <a:t>Urie Bronfenbrenner ökológiai modellj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76360" y="1515960"/>
            <a:ext cx="568944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8:53:18Z</dcterms:created>
  <dc:creator>tanar</dc:creator>
  <dc:description/>
  <dc:language>en-US</dc:language>
  <cp:lastModifiedBy>tanar</cp:lastModifiedBy>
  <dcterms:modified xsi:type="dcterms:W3CDTF">2009-09-07T09:57:04Z</dcterms:modified>
  <cp:revision>5</cp:revision>
  <dc:subject/>
  <dc:title>1. dia</dc:title>
</cp:coreProperties>
</file>